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F4A4-DA20-4B22-9173-B7494BEA3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5040-E988-4A40-ADDD-F289B2AC1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D8D1-14E5-4400-9C32-178A31D9F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6A92-965C-4727-B5E4-074687DE9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8F7D-C009-4744-9E32-A6A9A4D256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E397-E2B9-4D77-BEAE-A680CE24EF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E87B7-62B5-4E74-9CEC-1C8F8A8F5E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F7AC2-EE96-4A81-9640-4460C2902A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8088E-4F11-4B24-B547-F698C69408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30CC-4F4C-46BA-9AF2-07BD12EB10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194A-7A34-4948-8884-F73524B971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A43B-6959-479C-A7F3-90FCE0784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1947-8CC9-4DEE-95FF-7B8C61C336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8DBC-8F3C-4240-8C60-176E1E4310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B5F73-04EE-4835-A4A4-70902E55F8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5E3B-6493-4D34-9AE2-992EA0E82D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14C8A-EF57-4264-A729-B14EF4FCE7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5649-4E7F-4A67-9F94-A07534C65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7D2B-2E3E-455D-98D1-032B9A4A1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9270-75C1-4F1B-BB91-45BCA374C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80C5-E8F5-4486-B4AA-84AC52AAB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4C16-84EE-4374-9F1F-51F8DF902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1C37-3BBA-40FD-BF3E-8761A4099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4196-384B-4F8F-8A10-4A9748B21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038480" y="624492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BEF6-5DEC-4272-8965-072B53EBE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924320" y="65070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90760" y="624492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1559-2FDD-470B-A2B0-1C7BEE494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sac.org/_res/documents/sl/pdf/2007_training/samples-checklist-income-survey.pdf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9"/>
          <p:cNvSpPr/>
          <p:nvPr/>
        </p:nvSpPr>
        <p:spPr>
          <a:xfrm>
            <a:off x="1371600" y="1676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Discou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• Chicago • Orlando • Los Angeles • Portland • Hous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6ACC-9B27-48C1-B78D-0B7104BA6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sions 1, 2, and 3 (NSL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provisions under National School Lunch Act that allow schools that meet certain requirements to report to NSLP less often than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may ask for base-year documentation and state renewal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 uses the student counts approved under the appropriate pro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84DD-4E4C-4D46-BC1C-019AF3C27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067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d Start (NSL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 Start is a federal program that provides comprehensive developmental services for low-income children ages three to 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 Start students meet free lunch guidelines under NSLP, so Head Start entities automatically qualify for 90%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under age three are never considered eligible and must be cost-allocat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based Head Start is not 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F340-8F08-4E72-A72C-3099D09FB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7985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 certification (NSL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social services agency works with local educational authority to directly certify students for NSLP based on household participation in other poverty-bas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will accept the student counts determined using this method if the school can demonstrate participation in direct 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3958-6B44-4C11-827D-B67A53B0C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alternative discount mechanisms measure a level of poverty in a household equivalent to that required by NS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Eligibility Guidelines (IEGs) are published each year by the U.S. Department of Agriculture (US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% of the federal poverty guid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71AF-6CB5-4FD8-9F62-190336E70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ary Security Income (S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8 (federal public housing assi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Income Home Energy Assistance Program (LIHE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18C1-EE69-4650-8D5A-2BC4F7411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programs can be used as mechanisms ONLY IF their requirements are at least as stringent as IE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programs tha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tomatically qua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ry Aid to Needy Families (TAN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1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larship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B836-4BB0-4D10-81CE-3CE111BCF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6760" y="156996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nts can conduct surveys to establish eligibility (see </a:t>
            </a:r>
            <a:r>
              <a:rPr b="0" lang="en-US" sz="3600" spc="-1" strike="noStrike" u="sng">
                <a:solidFill>
                  <a:srgbClr val="2a56b2"/>
                </a:solidFill>
                <a:uFillTx/>
                <a:latin typeface="Arial"/>
                <a:hlinkClick r:id="rId1"/>
              </a:rPr>
              <a:t>sample surve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 requir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sent to all families whose children attend th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ntain names of family an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ntain size of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ntain income level of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ust not be more than two years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D3EF-048B-48B3-BAEE-4F375D078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6760" y="156996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SLP form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e used as a su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veys can request information on household income level or participation in eligible alternative mechanisms or b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ain copies of all surveys for your rec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61A5-48D0-49B9-8F0E-12024E996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6760" y="156996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 one exception, applicants must be able to provide data on an individual student ba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: if a school sends a survey to the households of all of its students and at least 50% of the surveys are returned, the school may project a percentage of eligibility based on the percentage of eligibility in the returned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8BD2-1A80-4656-94AF-A24256E40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6760" y="156996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nts can match siblings or collect data from other existing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if a elementary school student from a household participates in NSLP, an older sibling in that household can be counted as e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adequate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F122-D955-4A61-88E1-2BEE1EE80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 discount calc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discount mech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instructional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napsh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co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gle Entity; Multiple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nt is based on the total enrollment for the entity and NSL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ocation receives the same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y Nu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an entity number for each facility if the facility has a different address or a public right-of-way crosses the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9890-6742-433D-8C2C-73AD4CB05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84D1-2867-4EB3-B23D-4927D5129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instructional Fac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instructional facilities are school buildings with (few or) no classrooms or library buildings with no public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38080" y="3660840"/>
            <a:ext cx="411480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ba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hletic stadi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800600" y="3656160"/>
            <a:ext cx="4114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mobile ga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390D-FA1D-407E-97E4-61EEFA0D9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instructional Fac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gible for Priority 1 servi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gible for Priority 2 service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ly if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rvices are essential for the effective transport of data to classrooms or public areas of a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FB6C-27D6-46AF-AF94-D7BD76FFF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instructional Fac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ounts for NIFs without classro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the discount for a NIF on the same campus as a school or library is the same as the discount of the school or library (unless it is sha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IF shared by more than one school in a school district or library in a library system is eligible for the shared discount for that school district or libra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7592-66A0-45B4-8751-E63A15B17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instructional Fac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7985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: To calculate the discount, complete two Form 471 Block 4 workshe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lists all individual schools in the district or library outlets/branches in the library system to calculate the NIF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lists only the entities shar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NIF on this worksheet with the calculated non-matrix (shared) discount from the first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 THIS worksheet in Block 5 Item 2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7E04-6FE0-4352-80A6-B61E03E35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instructional Fac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NIFs that contain classrooms should use the snapsho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specific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ercentage of students eligible for NSLP for the student population that attends class on tha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at percentage and the urban/rural status to find the discount in the Discount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your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Schools and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really a new school or libr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State consider this a replacement facility for the same school or libra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es, use current discou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State consider this a new school or libr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es, the may use New School Construction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B349-F3C5-4C5E-9117-7BD7CD9DF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7416-E491-4D91-854B-DBB99E017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School 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a school is under construction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tudent population is known, use the percentage of NSLP eligibility of those students to calculate the dis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, use the weighted average discount of the school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complete two Block 4 worksheets as discussed previ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5D85-ED0F-4D5A-9F99-89ED32E4D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Library 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a library is under construction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imple percentage of NSLP eligibility for the school district in which the library building is located to calculate the dis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umber of students eligible for NSLP in the school district divided by the total number of students in the school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School 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er and Privat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 school district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ble to provide support to show that specific population has been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at data to calculate discoun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4483-740F-43F2-8A81-CAE31FE35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77BB-986A-4D8C-A815-0A5CD16FC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rate discounts depen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centage of students eligible for the National School Lunch Program (NSLP) or an equivalent measure of 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rban or rural status of the county or census tract in which the school or library building is 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C may request third-party verification of student counts submitted by applic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1B30-AC3F-48B1-B4FC-209698AF7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8A94-6D5F-453D-9EFA-A3AE88DF2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unt Matri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1523880"/>
          <a:ext cx="7619760" cy="4419720"/>
        </p:xfrm>
        <a:graphic>
          <a:graphicData uri="http://schemas.openxmlformats.org/drawingml/2006/table">
            <a:tbl>
              <a:tblPr/>
              <a:tblGrid>
                <a:gridCol w="3716280"/>
                <a:gridCol w="1774800"/>
                <a:gridCol w="212868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Eligible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 - 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- 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 - 4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-7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 -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38E2-2782-4B0E-BED8-F78EC90A8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schoo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percentage of students eligible for NSLP in tha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urban or rural status of the county or census tract in which the school is 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1751-423F-4E24-93AB-968F43303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1520" y="1600200"/>
            <a:ext cx="831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district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-rate discount for each individual school in the school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weighted average dis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school, multiply the E-rate discount by the total student population of the school (the weighted produ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ll weighted products and divide by the total number of students in the school distri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8DA1-DA53-45AA-88B8-A2B758D8E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 outlet/branch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total percentage of students eligible for NSLP in the school district in which the library building is 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urban or rural status of the county or census tract in which the library outlet/branch is 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35CA-629E-472E-AD7E-3A6F569C9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11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 system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-rate discount for each library outlet/branch in the libra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simple average dis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ogether the discounts for the outlet/branches and divide by the total number of outlets/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8E7F-3C82-4554-8857-17CF53AEC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11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rtium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-rate discount for each individual member of the consort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simple average of all the member dis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2:02:20Z</dcterms:created>
  <dc:creator>rreynolds</dc:creator>
  <dc:description/>
  <dc:language>en-US</dc:language>
  <cp:lastModifiedBy>Eflock</cp:lastModifiedBy>
  <dcterms:modified xsi:type="dcterms:W3CDTF">2009-09-18T16:38:27Z</dcterms:modified>
  <cp:revision>141</cp:revision>
  <dc:subject/>
  <dc:title>Slide 1</dc:title>
</cp:coreProperties>
</file>